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1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camera.wav" ContentType="audio/x-wav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27B2-9F8E-49C3-8EF0-F241BEF311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СОБЕННОСТИ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ЕЛОВОЙ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www.indem.ru    fond@indem.ru   206-81-7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ОВ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indem.ru    fond@indem.ru   206-81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уровня коррупции как высо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ценка уровня коррупции как высокого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птимис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птимисты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в корруп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Активная вовлеченность в коррупцию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збегание 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Избегание 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раются принять участие в борьбе с корруп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Постараются принять участие в борьбе с коррупцие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товы участвовать в распространении этического кодек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ы участвовать в распространении этического кодек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товы поддержать усиление государственного контроля за расходами всех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ы поддержать усиление государственного контроля за расходами всех гражда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Нельзя допустить, чтобы вся власть попала в одни руки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"Нельзя допустить, чтобы вся власть попала в одни руки"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отовность голосовать за СП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ность голосовать за СПС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рузья и враги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рузья и враги (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АЯ МЫС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я – это сигнал о неэффектив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ЛАВНАЯ МЫСЛЬ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я – это сигнал о неэффективност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рузья и враги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рузья и враги (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3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ти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4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вартил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ПАСИБО ЗА ВНИМАНИЕ 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ЕЩЕ ИЛЛЮСТ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ЕЩЕ ИЛЛЮСТРАЦ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П И КОРРУПЦИЯ В РОССИЙСКИХ РЕГИОН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ВРП И КОРРУПЦИЯ В РОССИЙСКИХ РЕГИОНАХ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ИТУАЦИЯ В РОСС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ИТУАЦИЯ В РОССИ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онные рынки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ые виды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онные рынки –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азные виды регулирован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годовой объе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а деловой 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$ 33,5 миллиар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равн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ная часть федерального бюджета России в 2000 г.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$ 40 миллиар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бщий годовой объем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ынка деловой 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$ 33,5 миллиард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ля сравнения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оходная часть федерального бюджета России в 2000 г.: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$ 40 миллиард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малого и крупного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квартиль – до 20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квартиль – от 200 000 до 80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квартиль – от 800 000 до 2 16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квартиль – свыше 2 16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тильное разбиение фирм по месячному оборо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собенности малого и крупного бизне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 квартиль – до 20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2 квартиль – от 200 000 до 80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3 квартиль – от 800 000 до 2 16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4 квартиль – свыше 2 16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вартильное разбиение фирм по месячному обороту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спешность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Успешность бизне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1090-A48B-4050-AAC4-71E819CE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46E8-3A49-47A0-9DF7-8D2EFFAC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C32-EDB2-4736-9DB3-44E72918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4013-AD8A-4469-A7A0-D1FCC87B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58A6-DCE4-49DD-9E31-17339CDD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AD17-D7E3-4E20-A295-36CFC768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8E35-55D7-4BC7-B218-4663CE26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449A-6EA3-4952-ACD7-50303996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621B-C354-4853-B659-3150C9F3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6B93-4374-4C31-9CFB-1D46509F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C770-CC2B-4BAC-9C3D-8E7A92E5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232-6CBD-4436-80F3-4A4EF018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F603-4569-460B-A94B-81FCF336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84B9-383F-4984-8F1D-A2D07D3F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BFC5-9011-40A3-B715-DCD0ED7B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6F92-287B-4D67-B85D-07C0AC08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6D78-09AB-440F-A6F6-D3D0A270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66F9-ED97-4B53-BE28-AA6FA98A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065-7B26-4FEC-A3E7-0826B374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3DE-2E0C-40E0-AED3-71E33555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9A0-1846-40F1-91BF-DBB73B29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A5E-F5DC-417E-A360-7E3ECE93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92A0-10B0-42D9-87DE-177D4EB0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132F-6B32-4DD6-B62F-58324B02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8D74-AF08-4F2C-ADDC-F06E9309C1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EFB4-64C4-48D1-90E6-562936018540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www.indem.ru/" TargetMode="External"/><Relationship Id="rId4" Type="http://schemas.openxmlformats.org/officeDocument/2006/relationships/hyperlink" Target="mailto:fond@indem.ru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820800"/>
            <a:ext cx="6941880" cy="27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ОВО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РУП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5"/>
          <p:cNvGraphicFramePr/>
          <p:nvPr/>
        </p:nvGraphicFramePr>
        <p:xfrm>
          <a:off x="468360" y="4773600"/>
          <a:ext cx="302580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73600"/>
                    <a:ext cx="30258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8"/>
          <p:cNvSpPr/>
          <p:nvPr/>
        </p:nvSpPr>
        <p:spPr>
          <a:xfrm>
            <a:off x="4643280" y="255600"/>
            <a:ext cx="4249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www.indem.ru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fond@indem.ru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206-81-7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Picture 9" descr="mone0076"/>
          <p:cNvPicPr/>
          <p:nvPr/>
        </p:nvPicPr>
        <p:blipFill>
          <a:blip r:embed="rId5"/>
          <a:stretch/>
        </p:blipFill>
        <p:spPr>
          <a:xfrm>
            <a:off x="4427640" y="3371760"/>
            <a:ext cx="4338360" cy="31082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259920"/>
            <a:ext cx="715788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ценка уровня коррупции как высо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7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985080" cy="42861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птими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403280" y="1965240"/>
            <a:ext cx="6481800" cy="39798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Активная вовлеченность в коррупц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97440" cy="3797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Избегание корруп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258920" y="2023920"/>
            <a:ext cx="6626160" cy="37576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2040" y="259920"/>
            <a:ext cx="745632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остараются принять участие в борьбе с коррупц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1258920" y="2166840"/>
          <a:ext cx="6553080" cy="348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166840"/>
                    <a:ext cx="6553080" cy="34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385040" cy="18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ы участвовать в распространении этического код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408720" cy="36086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2040" y="260280"/>
            <a:ext cx="74563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ы поддержать усиление государственного контроля за расходами всех гражд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1258920" y="2349360"/>
          <a:ext cx="6769080" cy="36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349360"/>
                    <a:ext cx="676908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2040" y="-360"/>
            <a:ext cx="745632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"Нельзя допустить, чтобы вся власть попала в одни руки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24720" cy="37288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188640"/>
            <a:ext cx="715788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ность голосовать за СП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971640" y="2133720"/>
          <a:ext cx="7129440" cy="37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7129440" cy="37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Друзья и враги (1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1844640"/>
          <a:ext cx="5410080" cy="4754520"/>
        </p:xfrm>
        <a:graphic>
          <a:graphicData uri="http://schemas.openxmlformats.org/drawingml/2006/table">
            <a:tbl>
              <a:tblPr/>
              <a:tblGrid>
                <a:gridCol w="4190760"/>
                <a:gridCol w="12193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упатель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иен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 сам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ртне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4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вщ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4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вока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5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уди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3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остранец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7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урналис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уберна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нист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ГЛАВНАЯ МЫС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53680" y="1844640"/>
            <a:ext cx="8039880" cy="5205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Коррупция – это сигнал о неэффективности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13720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80880" y="404640"/>
            <a:ext cx="830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Друзья и враги (2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908000" y="1844640"/>
          <a:ext cx="5334120" cy="4754520"/>
        </p:xfrm>
        <a:graphic>
          <a:graphicData uri="http://schemas.openxmlformats.org/drawingml/2006/table">
            <a:tbl>
              <a:tblPr/>
              <a:tblGrid>
                <a:gridCol w="3962520"/>
                <a:gridCol w="1371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курен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3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пута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4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дь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6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кур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лиционе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4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можен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7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нов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1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пектор (пожнадзора и т.п.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лж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оговый инспек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5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оговый полицейский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9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нди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60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80880" y="404640"/>
            <a:ext cx="830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1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8360" y="1776240"/>
          <a:ext cx="8137440" cy="5062680"/>
        </p:xfrm>
        <a:graphic>
          <a:graphicData uri="http://schemas.openxmlformats.org/drawingml/2006/table">
            <a:tbl>
              <a:tblPr/>
              <a:tblGrid>
                <a:gridCol w="7067520"/>
                <a:gridCol w="1069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й уровень налоговых ставок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92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Запутанность норм налогового права (усложненность порядка взимания налогов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8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эффективность бюрократической машин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4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остоянные проверки и чрезмерные требования контролирующих органов 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7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Отсутствие ясной и четкой экономической политики государств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61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динаковое отношение бюрократии к разным фирмам (при толковании законов и правил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5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защищенность прав собственност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5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эффективность судебной систем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3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Дорогие кредит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3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бъективность, коррумпированность судебных решений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0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80880" y="476280"/>
            <a:ext cx="8305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2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50920" y="1844640"/>
          <a:ext cx="8686800" cy="4640400"/>
        </p:xfrm>
        <a:graphic>
          <a:graphicData uri="http://schemas.openxmlformats.org/drawingml/2006/table">
            <a:tbl>
              <a:tblPr/>
              <a:tblGrid>
                <a:gridCol w="7467480"/>
                <a:gridCol w="1219320"/>
              </a:tblGrid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развитость экономической инфраструктур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7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облюдение всех правовых норм требует высоких затрат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4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ращивание власти и бизнес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3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Инфляция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1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предсказуемость издержек, связанных с соблюдением правовых норм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86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е цены на энергоносител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8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становленное законом неравномерное распределение налогового бремен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6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честная (несправедливая) конкуренция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5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е транспортные расход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3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Избирательный подход чиновников налоговых органов к взиманию налогов с разных налогоплательщиков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3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844640"/>
          <a:ext cx="8686800" cy="4724280"/>
        </p:xfrm>
        <a:graphic>
          <a:graphicData uri="http://schemas.openxmlformats.org/drawingml/2006/table">
            <a:tbl>
              <a:tblPr/>
              <a:tblGrid>
                <a:gridCol w="7467480"/>
                <a:gridCol w="121932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головные преступления (хищения, кражи и т.д.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6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олитическая нестабильность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алютное регулирование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ормы, регулирующие торговлю с иностранными государствами (экспорт\импорт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4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пределенность исхода коррупционной сдел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32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ровень выплат криминальным структурам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30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предсказуемость расходов на взят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81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Большие расходы на взят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7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Государственный контроль над ценам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3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ормы, регулирующие создание коммерческой организаци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2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4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2205000"/>
          <a:ext cx="8642160" cy="4378320"/>
        </p:xfrm>
        <a:graphic>
          <a:graphicData uri="http://schemas.openxmlformats.org/drawingml/2006/table">
            <a:tbl>
              <a:tblPr/>
              <a:tblGrid>
                <a:gridCol w="5184720"/>
                <a:gridCol w="865080"/>
                <a:gridCol w="863640"/>
                <a:gridCol w="863640"/>
                <a:gridCol w="865080"/>
              </a:tblGrid>
              <a:tr h="52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редсказуемость издержек, связанных с соблюдением правовых норм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развитость экономической инфраструктуры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ляция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объективность, коррумпированность судебных решений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е транспортные расходы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оянные проверки и чрезмерные требования контролирующих органов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Text Box 105"/>
          <p:cNvSpPr/>
          <p:nvPr/>
        </p:nvSpPr>
        <p:spPr>
          <a:xfrm>
            <a:off x="6516720" y="1700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вартил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1680" y="692280"/>
            <a:ext cx="715788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2950920" cy="273996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333360"/>
            <a:ext cx="71578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ЕЩЕ ИЛЛЮСТР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1763640" y="1773360"/>
          <a:ext cx="558972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773360"/>
                    <a:ext cx="558972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456320" cy="13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ВРП И КОРРУПЦИЯ В РОССИЙСКИХ РЕГИОН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2133720"/>
          <a:ext cx="8496000" cy="4190760"/>
        </p:xfrm>
        <a:graphic>
          <a:graphicData uri="http://schemas.openxmlformats.org/drawingml/2006/table">
            <a:tbl>
              <a:tblPr/>
              <a:tblGrid>
                <a:gridCol w="4464000"/>
                <a:gridCol w="172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дикатор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ррупции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рреляци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Доверительная вероятность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пции законодательной власти в регионе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52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0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пции исполнительной власти в регионе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40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1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тегральный индекс объема коррупци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78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м-пированности региональной власт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7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тенсивность деловой коррупци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6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СИТУАЦИЯ В РОССИИ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5616360" cy="3367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556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Коррупционные рынки –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разные виды регул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95280" y="1700280"/>
          <a:ext cx="8353440" cy="4841640"/>
        </p:xfrm>
        <a:graphic>
          <a:graphicData uri="http://schemas.openxmlformats.org/drawingml/2006/table">
            <a:tbl>
              <a:tblPr/>
              <a:tblGrid>
                <a:gridCol w="2089080"/>
                <a:gridCol w="2162160"/>
                <a:gridCol w="2013120"/>
                <a:gridCol w="208908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Вид регулировани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лотность коррупцион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ых сдело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редний размер взяток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(тыс.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$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Объем (в %) коррупционного рынка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финансовое контрольное, надзор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53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4,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Фискальное, налогов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1,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,83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2,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Лицензион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68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4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Таможен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1,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02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равоохрани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тель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1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549360"/>
            <a:ext cx="727092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Общий годовой объем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рынка деловой корруп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" y="17524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00"/>
                </a:solidFill>
                <a:latin typeface="Times New Roman Cyr"/>
              </a:rPr>
              <a:t>$ 33,5 миллиардов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Picture 4" descr="1-2"/>
          <p:cNvPicPr/>
          <p:nvPr/>
        </p:nvPicPr>
        <p:blipFill>
          <a:blip r:embed="rId1"/>
          <a:stretch/>
        </p:blipFill>
        <p:spPr>
          <a:xfrm>
            <a:off x="468360" y="2946240"/>
            <a:ext cx="3798720" cy="3475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495680" y="2860560"/>
            <a:ext cx="4419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92929"/>
                </a:solidFill>
                <a:uFillTx/>
                <a:latin typeface="Times New Roman Cyr"/>
              </a:rPr>
              <a:t>Для сравнения</a:t>
            </a:r>
            <a:r>
              <a:rPr b="0" lang="en-US" sz="2800" spc="-1" strike="noStrike" u="sng">
                <a:solidFill>
                  <a:srgbClr val="292929"/>
                </a:solidFill>
                <a:uFillTx/>
                <a:latin typeface="Times New Roman Cyr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 Cyr"/>
              </a:rPr>
              <a:t>Доходная часть федерального бюджета России в 2000 г.</a:t>
            </a:r>
            <a:r>
              <a:rPr b="0" lang="en-US" sz="2800" spc="-1" strike="noStrike">
                <a:solidFill>
                  <a:srgbClr val="292929"/>
                </a:solidFill>
                <a:latin typeface="Times New Roman Cyr"/>
              </a:rPr>
              <a:t>:</a:t>
            </a:r>
            <a:r>
              <a:rPr b="0" lang="ru-RU" sz="2800" spc="-1" strike="noStrike">
                <a:solidFill>
                  <a:srgbClr val="292929"/>
                </a:solidFill>
                <a:latin typeface="Times New Roman Cyr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336600"/>
                </a:solidFill>
                <a:latin typeface="Times New Roman Cyr"/>
              </a:rPr>
              <a:t>$ 40</a:t>
            </a:r>
            <a:r>
              <a:rPr b="1" lang="en-US" sz="3600" spc="-1" strike="noStrike">
                <a:solidFill>
                  <a:srgbClr val="336600"/>
                </a:solidFill>
                <a:latin typeface="Times New Roman Cyr"/>
              </a:rPr>
              <a:t> </a:t>
            </a:r>
            <a:r>
              <a:rPr b="1" lang="ru-RU" sz="3600" spc="-1" strike="noStrike">
                <a:solidFill>
                  <a:srgbClr val="336600"/>
                </a:solidFill>
                <a:latin typeface="Times New Roman Cyr"/>
              </a:rPr>
              <a:t>миллиардов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333360"/>
            <a:ext cx="71578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собенности малого и крупного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3284280"/>
            <a:ext cx="856908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 квартиль – до 20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2 квартиль – от 200 000 до 80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3 квартиль – от 800 000 до 2 16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4 квартиль – свыше 2 16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68360" y="1844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Квартильное разбиение фирм по месячному обороту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Успешность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116000" y="1976400"/>
            <a:ext cx="6840720" cy="38512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2:45:07Z</dcterms:modified>
  <cp:revision>74</cp:revision>
  <dc:subject/>
  <dc:title>PowerPoint Presentation</dc:title>
</cp:coreProperties>
</file>